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4738-AE0F-46F0-B1DA-70548E73A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57F1-E998-47A7-86AE-1EA6C9FF6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7E9B-4641-49D6-B296-82B16D4F7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4E5E-FDF9-40A4-93A0-B0FFADEA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24B3-9468-4029-B8D2-140B2FA78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4BB0-C4FE-4A25-A7CB-A0D27E6F4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7421-405D-400C-ADD2-DEB0961F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FB81-903D-476B-A7D4-CFB53687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C196-4E8A-4414-98F2-8CE219E2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4DBB-BB8F-48F5-939B-7BA2D021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FC7F-8AA5-49D9-A4E4-C5E5F8A9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842D-AC33-4897-8AA1-819AC483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8C10-10F5-4DF7-B3B2-A4DA0412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DD17-9AC7-45B6-8E02-C86AA535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280A-5008-429C-B5B5-B78E55588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iara Zapa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Rashmi. Yo vivo en Nueva York. Tengo quince años. Tengo dos hermanas. Muy bueno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4492800"/>
            <a:ext cx="657360" cy="94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45655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5594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4565520"/>
            <a:ext cx="451080" cy="646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77800" cy="834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uándo nos vemos ?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estoy haciendo mi tarea de escuela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uy bein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estas haciend 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ómo eres tu amiga 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4:40:33Z</dcterms:created>
  <dc:creator>FriscoISD</dc:creator>
  <dc:description/>
  <dc:language>en-US</dc:language>
  <cp:lastModifiedBy>NYCDOE</cp:lastModifiedBy>
  <dcterms:modified xsi:type="dcterms:W3CDTF">2012-12-06T15:11:10Z</dcterms:modified>
  <cp:revision>102</cp:revision>
  <dc:subject/>
  <dc:title>Profile</dc:title>
</cp:coreProperties>
</file>